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CD5-897F-4788-AE89-B78F82B3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655-5BEC-40DB-8BF0-C10455DF4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ED3-1596-4687-84B1-AEABEA40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FCC-146F-4D53-BD03-EF6199C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F87-C9CF-49CB-A197-E943497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3F8-D247-4CF7-A462-378F5BBD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DE2-02BF-4804-8E9B-CA1780F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DED-1F5A-4335-BDCD-39F3244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DA69-8D57-4A2E-A938-966140BB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877-E2EE-4103-9B22-834CB671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80D1-41CA-4E8B-80B6-7A800158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F1F-C8B6-441E-9D1B-36AC1E7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B6E5-478F-4202-BD34-A599B34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FA7-5395-46FC-B8B3-092372B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EA4-8DDC-408F-8368-C022584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81D8-2F27-47DD-9C85-B85DB01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F3C7-70E3-412B-8D6A-D7ADDCDA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172E-D504-4A8F-A578-664DAF31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398-CD9D-4A3E-8159-605C58D0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355A2-0B77-4F6A-B9E3-0571DDD0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11E02-495E-420B-A96C-AF2FF10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4672-5F04-4565-8C41-3BF08EBF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E6225-712E-4906-A4A1-A4D8EA7A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DFC69-FC79-4546-AC9F-7469404F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47B-2066-4801-BE33-3C8731C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BD87C-91B5-4DD9-AF7D-6491ADF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70273-EF88-4BB8-B372-F933DE2C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AEEDA-585B-4B7A-97AD-1B2A166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9EA68-289C-48E9-9C7D-3E64C50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E55C0-2C57-441C-93D7-8C41A8C7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D931F-12B2-4165-86A5-7A97CEC5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75BAE-8631-4D0A-A2E9-7D369C1F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FB07-432E-4A7E-8930-1CD0EA5D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2609-7EBB-48CD-BFFE-BED99D94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7DA4-41CD-4C73-AC9A-A61A200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240-6B0C-4B64-9F13-EDB0B48E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749F-B5BD-47D2-AB5B-ED6EACF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1192-C702-4C45-B06F-8258A0D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16E5-1EA9-4700-8E1C-7D28488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AF2B-385E-4691-8C93-0EB06FD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8294-EE57-4125-86A9-368FB73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4C3D-BBC4-47FD-87F1-E29A622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FC8D-F145-4602-9800-430CA6C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5DAE-9C50-4F46-B65F-10E6E2B6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180D-A6AD-4DB1-A0F1-554F893D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130-609A-4818-8975-AC5B497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6F8-E555-49D6-B29C-7E6B21A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7A2-1CB4-4BDE-A8E7-C3BCF26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7BD-B8C4-4142-BA7A-418D411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825-9E2E-42F3-A662-7C91FB3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786-76D0-48C1-8250-D5DF03F9ED2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69B-8A16-4801-BD1E-09C49F6BAF5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B94-D286-4FFD-95CD-1F815F1A7087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268A-9596-47FB-B22E-688D23C2D8D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9D8-B3E1-4746-AD13-1E25B1EFDA5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3CE-FB1B-46E7-8CB9-F32A133A53A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4424-D2E5-420C-BA91-D17B78F50EB8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B39-EDB9-4619-9000-95986181088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Animal Agriculture – Rights and Welf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livestock overheating in hot weath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meow, swish, hiss, quack, croak, wh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arm and ranching operations in South Dakota paid close attention to the excessive heat wave that blanketed the state. The high temperatures hit livestock with a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wham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! It was important for producers to keep animals cool using misting systems and the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wish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of fans. Livestock owners concerned for the welfare of their animals took extra precautions to avoid the sun’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izzle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The writing sample describes a weather-related welfare condition that affected agriculturists in South Dakota while using the onomatopoeia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wham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wish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izz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Agricultural Mechanics and Metal Fabric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annual contest, identify engine parts, sharpen tools, use power 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lank, tick tock, zip, honk, clink, hu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71866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7680" indent="-2592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FA offers an Agricultural Mechanics contest each year. Participants in the Career Development Events may be required to identify engine components, sharpen a chisel or use power tools. Students may find causes of the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i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or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a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sounds coming from equipment and machines. Depending on knowledge and experience, some FFA member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zip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right through the contest.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In this writing sample a student describes the Ag Mechanics CDE event while using the onomatopoeia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ink, cla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,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zip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Leadership and Personal Development students analyze and explain onomatopoeias within their own written text related to current agricultural issues to communicate the effect of such literar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adership and Personal Development, LPD 4.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mploy public speaking skills to communicate an important agricultural messag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search current agricultural issues to determine what information needs to be shared with the public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rite a six- to eight-minute spee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and explain literary devices within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cognize literary devices and communicate their effect within text: onomatopoe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terary device in which a word or expression mimics the sound it repres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xample: the “quack” of a duck or the “meow” of a ca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xamples: buzz, zoom, honk, burp, crunch, moo, hiss, gong, thud, splash, zip, creak, slur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rs should avoid over-us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eaching example: First, randomly assign or have students choose an agricultural topic and set of onomatopoeias from the lists provided; then have students research current ag issues related to that top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ing 3 of the 6 onomatopoeias, write informational sentences about a current agricultural issu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idwest Weather Condit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oom, splash, pitter patter, squish, rumble, ratt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imal Agriculture – Rights and Welfar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ow, swish, hiss, quack, croak, wha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gricultural Mechanics and Metal Fabric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lank, tick tock, zip, honk, clink, hu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tural Resources Conservation and Manageme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ash, gasp, ouch, buzz, yahoo, cras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od Science and Produc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runch, snap, swoop, splat, burp, oink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Midwest Weather Condi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summer flooding, heat wave, high temperatures, tornado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boom, splash, pitter patter, squish, rumble, ratt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7491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bine current issue with onomatopoei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spring and summer of 2011 will be remembered for the tremendous tornadoes and flooding that occurred.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Boom, rumble, splash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! Midwesterners from several states have grown accustomed to the growl of storms.”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This writing sample describes facts about Midwest weather conditions while using the onomatopoeias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rumble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boom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splas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34:39Z</dcterms:modified>
  <cp:revision>82</cp:revision>
  <dc:subject/>
  <dc:title>South Dakota Ag Education</dc:title>
</cp:coreProperties>
</file>